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87E-BEC7-454E-BA43-A5806334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B51-3BF6-4FF1-9F0E-3832B30A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09E-38FA-4C1C-8CD4-9D291E3B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6C8-BC70-4A59-AE75-A3B15FDC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948-BFA7-43FC-BAEB-6E159F5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641-2021-48D7-A072-5790007A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7E2-67B4-442E-AD96-90C99918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5FF-3899-4108-A108-5A8BA332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9E0-BC86-4BF7-8C3F-4654A702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501-7CD1-45C5-9FFC-B7F9ED67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FBB-B271-4EFB-A1A3-E23D179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4DB-EDB3-45DF-84A1-10B8AAC6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722-A3CE-47A8-A10A-D1B751F1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u……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600" cy="4651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a 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afl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49:59Z</dcterms:created>
  <dc:creator>Alexandru B</dc:creator>
  <dc:description/>
  <dc:language>en-US</dc:language>
  <cp:lastModifiedBy>Carmen</cp:lastModifiedBy>
  <dcterms:modified xsi:type="dcterms:W3CDTF">2009-11-13T09:49:03Z</dcterms:modified>
  <cp:revision>6</cp:revision>
  <dc:subject/>
  <dc:title>Diagrama KVL</dc:title>
</cp:coreProperties>
</file>